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416-EA9D-470D-823B-87481D0A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218-5048-4D96-954C-E55B139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EF9-DCCB-4B7B-BA67-8E13E87D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5D5-D760-4662-9498-90C30537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DC5-E2DF-46A0-AFAF-C12D398B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0B2-E0C9-4FEE-9D9B-0D7C9A0F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EBB-D7C4-49E7-8DAC-89427635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4EB-AD86-44D5-8CE8-9A297CA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04C-21C9-4FFF-AF65-6FEA63B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F73-4E1A-4D7A-A382-91F4B72A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E37-B86F-4A27-BFD2-548ED83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D8B-E9FE-40C0-9EBF-000E989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1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51CD-B802-4FAD-B5E6-A0D65ACF46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озв’язування текстових задач з тем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89000"/>
            <a:ext cx="640080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b050"/>
                </a:solidFill>
                <a:latin typeface="Calibri"/>
              </a:rPr>
              <a:t>„</a:t>
            </a:r>
            <a:r>
              <a:rPr b="1" i="1" lang="uk-UA" sz="5400" spc="-1" strike="noStrike">
                <a:solidFill>
                  <a:srgbClr val="00b050"/>
                </a:solidFill>
                <a:latin typeface="Calibri"/>
              </a:rPr>
              <a:t>ГЕОМЕТРИЧНА ПРОГРЕСІЯ.”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585792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УГАЙ Н.В.,учитель математики Шосткинської гімназ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76280"/>
            <a:ext cx="8686800" cy="72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 гру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 числами 5 і 1280 вставте три таких числа, щоб вони разом із даними числами утворювали геометричну прогресі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І група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 числами 4 і 2500 вставте три таких числа, щоб вони разом із даними числами утворювали геометричну прогресі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ІІ група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найдіть перший член геометричної прогресії , яка складається з шести членів , якщо сума трьох її членів з непарними номерами дорівнює 546, а сума трьох інших членів дорівнює 182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и якому значенні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исла 2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– 1 ,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3 ,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 15 будуть послідовними членами геометричної прогресії? Знайдіть ці числ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76280"/>
            <a:ext cx="82296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озв’язання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властивістю геометричної прогресії : будь-який член прогресії, крім першого, є середнє геометричне між сусідніми членами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√  (   ? 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)² =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?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9 =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?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х –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9 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 = 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?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24 = 0  поділимо дане рівняння на -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 24 = 0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теоремою Вієта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+ 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?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×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?,  то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 =-24  ;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2= 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(-24) - 1 = - 48 - 1 =  ?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 - 24 + 3 =  ? 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- 24 + 15 =  ?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 1 – 1 =2 – 1 = ? 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1 + 3 = ?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1 + 15 = ? 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Відповідь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- 49, - 21,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4,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озв’язання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властивістю геометричної прогресії : будь-який член прогресії, крім першого, є середнє геометричне між сусідніми членами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√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)² =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9 =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х –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9 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 = 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24 = 0  поділимо дане рівняння на -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 24 = 0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теоремою Вієта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+ 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-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×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-24,  то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 =-24  ;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2= 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(-24) - 1 = - 48 - 1 =- 49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 - 24 + 3 = - 21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- 24 + 15 =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 1 – 1 =2 – 1 = 1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1 + 3 = 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1 + 15 =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Відповідь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- 49, - 21,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4,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33360"/>
            <a:ext cx="8229600" cy="71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d7e0e"/>
                </a:solidFill>
                <a:latin typeface="Calibri"/>
              </a:rPr>
              <a:t>Підсумок уроку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d7e0e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Що нового дізнались на уроці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Чим займались ми сьогодні на уроці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Яку історичну інформацію про геометричну прогресію ви можете повідомит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сн</a:t>
            </a: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і вправ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Яка числова послідовність називається геометричною прогресією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Серед наведених послідовностей виберіть геометричну прогресію, назвіть її знаменник. З’ясуйте, яка вона зростаюча чи спадна? 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а) 5, 8, 10, 15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б) 3, 6, 12, 24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) 4,  9, 16, 25,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81, 27, 9, 3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3.  Назвіть формулу n-го члена геометричної прогресії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4.  Сформулювати властивості геометричної прогресії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орядо</a:t>
            </a:r>
            <a:r>
              <a:rPr b="1" lang="uk-UA" sz="4400" spc="-1" strike="noStrike">
                <a:solidFill>
                  <a:srgbClr val="7030a0"/>
                </a:solidFill>
                <a:latin typeface="Calibri"/>
              </a:rPr>
              <a:t>к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веденн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жіть усе, що спаде вам на думку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 обговорюйте і не критикуйте висловлювань інших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ожна повторювати ідеї, запропоновані іншим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зширення запропонованої ідеї заохочує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ка з наведених послідовностей є геометричною прогресією?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) 2; 6; 18; 36;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) 4; 8; 16; 32;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Б) 80; 40; 20; 5;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Г)2; -10; 50; 250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кажіть серед наведених послідовностей  геометричну  прогресію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6; 18; 54; 162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3; 8; 13; 18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1; 2; 3; 5;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21; 19; 17; 1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діть знаменник геометричної прогресії  (bn), якщо b6 = 14 / 15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b7 =2 /3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3/7;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5/7;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7/5;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7/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діть перший член  геометричної прогресії, якщо її другий член      b2 =12,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а знаменник q = -3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4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-4;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36;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-36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ому дорівнює п’ятий член  геометричної прогресії, якщо її перший член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b1 = 405, а знаменник q = -⅓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-5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5;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-3;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ти невідомий член геометричної прогресії : 3;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;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8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9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9;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3;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34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8:06:13Z</dcterms:created>
  <dc:creator>Пользователь Windows</dc:creator>
  <dc:description/>
  <dc:language>en-US</dc:language>
  <cp:lastModifiedBy>Светик</cp:lastModifiedBy>
  <dcterms:modified xsi:type="dcterms:W3CDTF">2012-06-05T10:11:54Z</dcterms:modified>
  <cp:revision>9</cp:revision>
  <dc:subject/>
  <dc:title>Розв’язування текстових задач з теми:</dc:title>
</cp:coreProperties>
</file>